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4C6-A70F-4D26-94C8-D5099E11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11A-4715-478C-AF1D-13C2DE69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99A7-FAE1-4D13-8E71-E35EFF30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16D-B3BC-4016-81F5-0D144BFA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2D86-259E-4190-BF45-1B31F021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655-79A6-42C1-83E9-DD36C901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5EF-3CAA-498C-B40B-40A75CAC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6F0-59DD-482E-80DE-A3DF71FF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CDF-7E45-4A40-BFD2-4339468D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486-8451-4C4B-8E93-B8FEBACB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0FA2-053F-4991-9981-09DFED18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A5A-F9DF-4538-A749-DFD599CC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03FB-F934-4734-96B6-8304E3AE4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edit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05:50:04Z</dcterms:created>
  <dc:creator>Michal.Holliday</dc:creator>
  <dc:description/>
  <dc:language>en-US</dc:language>
  <cp:lastModifiedBy>Michal.Holliday</cp:lastModifiedBy>
  <dcterms:modified xsi:type="dcterms:W3CDTF">2001-04-19T06:02:00Z</dcterms:modified>
  <cp:revision>2</cp:revision>
  <dc:subject/>
  <dc:title>PowerPoint Presentation</dc:title>
</cp:coreProperties>
</file>